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0C26-0864-43D2-983F-F52CA163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EC1-40F5-46E3-9482-FBA82AAC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96FA-6436-410C-A860-594C4BD1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FFA-4457-4870-A216-B348378B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C9F-2FD8-48E0-A844-2DDBE9A7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9A8-A18E-4911-8E2F-61FE6499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A25-A4AE-46B3-B8C6-23B3553F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5DAA-2F23-47AF-AB61-5324D167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984C-B000-4D53-B026-38238EDC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CDE-75BE-439C-8C78-8A670EF4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1EEA-3B5B-45FA-8CFB-2CEA6E26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353-C7A7-49CF-A8A7-F3575BAE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4A67-E134-47A8-8919-AF2ECE6B27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是一个人终身都必须做的事情。一个人能否成功，能否获得生活的幸福，在一定程度上取决于他的学习方法。而一个人的学习能力又取决于他从小养成的优良学习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课件相关视频可从互联网上搜索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某同学学习极其用功，在学校学，回家也学，不时还熬熬夜，题做得数不胜数，但成绩却总上不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来，有付出就应该有回报，而且，付出的多就应该回报很多，这是天经地义的事。但实际的情况却并非如此，这里边就存在一个效率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率指什么呢？好比学一样东西，有人练十次就会了，而有人则需练一百次，这其中就存在一个效率的问题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839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提高学习效率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重要的一条就是劳逸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也就是平时我们常说的：玩的时候痛快玩，学的时候认真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效率的提高最需要的是清醒敏捷的头脑，所以进行适当的休息和娱乐，不仅仅是有好处的，更是必要的，是提高各项学习效率的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举一个很浅显的例子，比如说记单词，如果你只是随意的浏览或漫无目的地抄写，也许要很多遍才能记住，而且不容易记牢，而如果你能充分发挥自己的想象力，运用联想的方法去记忆，往往可以记得很快，而且不容易遗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见，如果能做到集中精力，发挥脑的潜力，一定可以大大提高学习的效果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51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天保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时睡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天到晚伏案苦读，不是良策。学习到一定程度就得休息、补充能量。晚上不要熬夜，定时就寝。中午坚持午睡。充足的睡眠、饱满的精神是提高效率的基本要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体育锻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身体是“学习”的本钱。没有一个好的身体，再大的能耐也无法发挥。因而，再繁忙的学习，也不可忽视放松锻炼。有的同学为了学习而忽视锻炼，身体越来越弱，学习越来越感到力不从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高学习效率的另一个重要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合理分配时间，即“把劲儿使在刀刃上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时间安排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列出一个自己的作息时间表，内容包括：吃饭、睡觉、上课、娱乐等所有全天活动内容（含星期假日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析：哪些时间段内的活动是必须的，无法更改；哪些时间段内是有时间可以挤出来用来学习的，可以进行什么样的学习活动。每天可以多出多少时间来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何安排时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有计划，化整为零，给各个阶段任务定一些时间限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：把作业分成若干个部分，把每一部分限定时间。例如一小时内完成这份练习、八点以前做完那份测试等等，这样不仅有助于提高效率，还不会产生疲劳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可能的话，逐步缩短所用的时间，不久你就会发现，以前一小时都完不成的作业，现在四十分钟就完成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在学习的同时干其他事或想其他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心不能二用的道理谁都明白，可还是有许多同学在边学习边听音乐。或许你会说听音乐是放松神经的好办法，那么你尽可以专心地学习一小时后，全身放松地听一刻钟音乐，这样比带着耳机做功课的效果好多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整个晚上都复习同一门学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晚上只看数学或英语，这样做非但容易疲劳，而且效果也很差。每晚安排复习两三门学科，情况要好多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方法与学习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提高学习效率的关键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提高课堂学习效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前要有一定的预习，这是必要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清哪些内容已经了解，哪些内容有疑问或是看不明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别标出并记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样既提高了自学能力，又为听课“铺”平了道路，形成期待老师解析的心理定势。这种期待的心理可以调动起我们的学习热情和高度集中的注意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合理记课堂笔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时一节课就忙着抄笔记了，这样做，有时会忽略一些很重要的东西，但这并不等于说可以不抄笔记。不抄笔记是不行的，人人都会遗忘，有了笔记，复习时才有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时老师讲得很多，在黑板上记的也很多，但并不需要全记，书上有的东西当然不要记，要记一些书上没有的定理定律，典型例题与典型解法，这些才是真正有价值去记的东西。否则见啥记啥，势必影响课上听课的效率，得不偿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上集中注意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生成绩的优劣大部分是在课堂上分化下来的。上课能够集中注意力，听课效率高，成绩就好；反之，成绩就会下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人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钟内一直集中注意力，这是不现实的。但我们要时刻提醒自己，不开小差，专心听讲。在老师讲解自己已掌握的知识时，可以稍微休息一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散注意力的原因有：联想到最近的高兴和烦恼的事、留意身边的学习用具等物品、身体不舒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提高学习效率的重要因素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认真独立完成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做作业的好处与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做作业可以加深对知识的理解和记忆，防止遗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际上，不少学生正是通过做作业，把容易混淆的概念区别开来，对事物之间的关系了解得更清楚，公式的变换更灵活。可以说做作业促进了知识的“消化”过程，使知识的掌握进入到应用的高级阶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做作业可以提高思维能力。面对作业中出现的问题，就会引起积极的思考，在分析和解决问题的过程中，不仅使新学的知识得到了应用，而且得到了“思维的锻炼”，使思维能力在解答作业问题的过程中，迅速得到提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5345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高作业的效率最重要的是选“好题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千万不能见题就作，不分青红皂白，那样的话往往会事倍功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业题目都是围绕着知识点进行设计的，而且很多题是相当类似的。首先选择想要得到强化的知识点，然后围绕这个知识点来选择题目。题目并不需要多，类似的题只要一个就足够，选好题后就可以认真地去做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业效率的提高，很大程度上还取决于作业批改之后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于做错的题，应当及时订正，并认真思考错误的原因，是知识点掌握不清还是因为马虎大意，分析过之后再做一遍以加深印象，这样作业效率就会高得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字迹工整，规范解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057560" cy="5410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943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字迹潦草，丢三落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172040" cy="5562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14760" y="380880"/>
            <a:ext cx="4172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论题目是困难还是容易，都认真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172040" cy="556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14760" y="228600"/>
            <a:ext cx="4172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638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偷工减料，遇到难题就打退堂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批改之后，不及时订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057560" cy="5410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33840" y="380880"/>
            <a:ext cx="40575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中有目标：做到坚定不移，不受周围事物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路曲心直》视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养成及时整理学习用品的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过程中，把各科课本、作业和资料有规律地放在一起。待用时，一看便知在哪。而有的学生查阅某本书时，东找西翻，不见踪影。时间就在忙碌而焦急的寻找中逝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养成切磋交流的习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遇到问题要互帮互学，展开讨论。每一个人都必须努力吸取别人的优点，弥补自己的不足，使自己对问题的认识更加深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讨论过程中正确的东西就比较容易记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位哲学家曾说过：“我有一个苹果，你有一个苹果，交换以后，我们还是拥有一个苹果。但是，我有一种思想，你有一种思想，交换以后，我们就会拥有两种思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科学对待考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考试的目的在于显示你掌握某一学科的程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考试不好，天不会塌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考试对我们学习大有帮助。通过考试，我们可以知道哪些地方还需要进一步下功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习惯五大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前没有准备好书和笔记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课睡觉、讲话、打闹、或哭或笑、传纸条、翻桌子、借东西、发出噪音、看课外书或写其它学科作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交、晚交作业，不及时订正作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抄袭作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考试作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信自己能做到并且一定能做好，自信而潇洒地面对紧张而充实的初中生活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命的历程是只走一次的，你我手中都握着一张单程船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祝愿你们在若干年后回首这段时光时，为自己曾经的努力而骄傲，为拥有一份美好的回忆而骄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目标化为行动 ： 目标要细化为日常生活 中具体的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视频《化目标为行动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不懂就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的同学基础不好，学习过程中老是有不懂的问题，又羞于向人请教，结果是成绩越来越差。这时，唯一的方法是，向人请教，不懂的地方一定要弄懂，一点一滴地积累，才能进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视频《辩日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培养毅力，学会坚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应该再试一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个青年人把他的第一本小说《气球上的五星期》书稿寄到了出版社。过了一个星期，书稿被退了回来。他想了想，又将书稿寄给了另一家出版社。过了几天，书稿退了回来。他咬咬牙，又将书稿寄到第三家出版社……最后他寄了十六家出版社，被退回来了十六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十六次失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对于一位爱好文学的人来说，无疑是个致命的打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果然，他先是失望至极，继而拍案大怒，还一把将书稿扔进了火炉里，但在这样一个时刻，他的妻子把书稿抢了出来，还郑重地劝了他—句：“你应该再试一次。” —句话提醒了他。他冷静地想了想，决定再试—次。他第十七次把书稿寄了出去。果然，第十七位出版商看中了这本书，决定立即出版，而小说也果然—炮打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随着小说的热销，世界开始对他刮目相看，他成功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此成了闻名世界的大作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个青年人就是凡尔纳，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世纪法国作家，著名的科幻小说和冒险小说作家 ，曾写过《海底两万里》、《地心游记》等著名书籍，被称为“科学幻想之父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凡尔纳成功的原因是什么呢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而易见，是坚持。而坚持的一个最常见的表现形式，就是勇敢地再试一次。是的，在许多时候，只要少试一次，胜利就会与你擦肩而过。既然如此，为什么不再试一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培养毅力，学会坚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视频《隐形的翅膀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19:2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4:20:12Z</dcterms:modified>
  <cp:revision>1</cp:revision>
  <dc:subject>主题班会课件(分28大类): http://shop62905894.taobao.com</dc:subject>
  <dc:title>主题班会课件(分28大类): http://shop62905894.taobao.com</dc:title>
</cp:coreProperties>
</file>